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4C0-7564-4472-86E6-B8796BF9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79D-492B-4A1C-A56D-F5D6DF0C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88D-4654-4B99-B849-C9968F4D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9D9-8B45-4B09-BD02-AF2F7F39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8282-2795-4FD1-8AD9-B7077526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7BDD-E057-45FC-868C-7DDF646E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1BBB-BC0A-4632-BE11-CCC97335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06F5-9BD0-4030-BA4F-294D5C60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5502-216C-4505-9180-295351BC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5954-9349-4652-B167-91011BFA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E78D-2EB0-4FC9-8C4C-3CAD4B56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93A-02AA-4BDC-BE70-CCD8E287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8B6B-8726-4497-AC10-2F1F2EF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B4CC-2023-4B2F-BE3A-5515C8BA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3DC7-716E-4BD9-86FB-C3266E45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4EC7-076D-4727-A46C-8E9E6DE7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53EC-B460-49D1-BC65-03C3CF0A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897-CD53-43D0-ABD9-55F4B167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DDC-3BE3-431A-9F25-79DBB6CA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633-BA59-4888-B11D-541DFC9B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717-E1BC-47D2-8D9A-A2C216A6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F46-8847-4E4E-8F09-3E3F90B7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5A5-BED8-4970-8D9D-13D80E2A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C7F-6263-4CBA-8F89-5EC6FEDC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EAE7-65FF-4513-9775-0C85809ABD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9772-F341-4CB8-AA2B-48BAF1B6D0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kills an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MIN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esson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9th Novem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3815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73280" cy="325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324480" y="2781360"/>
            <a:ext cx="2665440" cy="3951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25560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explanation of your development needs. 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You want to include your weaknesses in a training programm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Methods of practice you used to improve your weak skills and why they are effectiv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5560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42920" y="923760"/>
            <a:ext cx="83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AB – Assessment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ur outcomes: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utcomes 1 and 3 completed in S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utcomes 2 and 4 completed in S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utcome 1 is done as ho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utcome 3 is done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Due Monday 16</a:t>
            </a:r>
            <a:r>
              <a:rPr b="0" lang="en-GB" sz="32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Nov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omplete Part 1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(all 4 questions)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of the N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Make sure that you structure your answers and write in senten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95640" y="4508640"/>
            <a:ext cx="4464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y the end of this lesson you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e able to complete part 1 of the N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now the 3 s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now the metho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prac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48360" y="3933720"/>
            <a:ext cx="35640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1 – The Preparation (Cognitive)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2 – The Practice (Associative)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3 – The Automatic (Autonomous)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12000" y="4941720"/>
            <a:ext cx="2844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Methods of Pract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There is a variety of different methods of practice which we use to develop our skills and techniq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hadow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petition without mo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petition with mo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ntinuous R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mbination R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nditioned Ga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(Gradual Build U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(Whole Part Who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27640" y="3573360"/>
            <a:ext cx="26272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ge of Learning Ladd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State what practices would be used at each stage 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Automatic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Associate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Cognitive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NAB – Part 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one as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4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 least ½ a page per ques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MUST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be returned Monday 16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November 200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12000" y="4521240"/>
            <a:ext cx="28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412640"/>
            <a:ext cx="78980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escribe the methods used to identify your performance strengths and weaknesses. (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nsideration of Qual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ovement analysis schedu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Knowledge of resul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cattergra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2478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48360" y="3875040"/>
            <a:ext cx="35640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196640"/>
            <a:ext cx="77533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xplain why these methods were appropriate. (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Permanent record – so allowing you to compare them to previous schedules you have done to see if improv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mpare them – to a model performer eg. Another member of the class or a professional athle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liable – as carried out in a controlled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port specific to badminton – allows you to improve the spo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y are effective and appropri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explanation of your strengths and weaknesses. 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tate your weak and strong skills within badmint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ow would these effect your perform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From using the methods of gathering information what strengths and weaknesses  have yo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dentifi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5560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KirkpatrickL</cp:lastModifiedBy>
  <dcterms:modified xsi:type="dcterms:W3CDTF">2009-11-09T10:29:17Z</dcterms:modified>
  <cp:revision>41</cp:revision>
  <dc:subject/>
  <dc:title>Slide 1</dc:title>
</cp:coreProperties>
</file>